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C31-0945-427A-9731-7B682E72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2C8-B707-452B-B25A-6AAB1AD1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0DD-42A1-4AD1-A544-F3BC34AD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FC2-6A9F-4139-AD07-E80EEB9B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D44-C641-4287-A847-6E5881AA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C4D-7A3F-470F-8858-C8D7EBC2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8FF-69C5-4DC4-A3CA-BC55AF12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8D1-9014-4D90-86DD-C3075546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918-66AD-4C5F-A575-6E6F149A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4D6-D324-4A8D-90DF-DBCF3073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FDB-28A0-45AF-B39C-A6E5DC48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7BF-B407-4498-B2F4-64DD8E5E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5F8C-88D4-4913-9B1F-3C87DAB4F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corporations such as Hasbro sell ownership interests in the company in the form of shares of sto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TPChart"/>
          <p:cNvGraphicFramePr/>
          <p:nvPr/>
        </p:nvGraphicFramePr>
        <p:xfrm>
          <a:off x="4508640" y="2008080"/>
          <a:ext cx="4483080" cy="47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08080"/>
                    <a:ext cx="448308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ommon stock is issued at a premium, the excess of the amount paid over par is credited to the paid-in capital in excess of par value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72000" y="2165400"/>
          <a:ext cx="4419720" cy="46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65400"/>
                    <a:ext cx="441972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inancial loss that a stockholder may suffer is limited to the amount investe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ior period adjustment should not be reported on retained earnings statement for the current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905120"/>
          <a:ext cx="448308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05120"/>
                    <a:ext cx="448308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696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considered a  characteristic of a corpor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9656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liability of its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ransferable units of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axable 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a disadvantage of the corporate form of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iability of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legal 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large amounts of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taxation of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ch one of the following is not an ownership right of a stockholder in a corpor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114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are in assets on liqu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lare dividends on the common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are in distributions of 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vote in matters concerning th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o-par common stock is issued, the journal entry will include a credi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9656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ned Ear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d-in Capital Commo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an important date with respect to divide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1132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corporation to pay a cash dividend, it must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5360"/>
            <a:ext cx="4114800" cy="29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retained 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action by the board of dir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only used method of accounting for the purchase and resale of treasury stock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 valu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d valu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market valu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96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 person always analyze the financial statements of the company before purchasing a company’s stock as an invest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72000" y="160020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60020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would not be a classification for Restrictions to Retained Earn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2209680"/>
          <a:ext cx="4483080" cy="458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09680"/>
                    <a:ext cx="4483080" cy="45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671920"/>
            <a:ext cx="41148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127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tems increases Retained Earning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10960"/>
            <a:ext cx="41148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ormal journal entry is not required for which of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divi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divi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sp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ance of common stock at pa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660240"/>
            <a:ext cx="8305920" cy="207720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March 6, Limerick Corporation issued for cash 15,000 shares of no-par common stock at $30. On April 13, Limerick issued at par 1,000 shares of 4%, $40 par preferred stock for cash. On May 19, Limerick issued for cash 15,000 shares of 4%, $40 par preferred stock at $4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urnalize the entry to record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2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457200" y="2971800"/>
          <a:ext cx="8305920" cy="3772080"/>
        </p:xfrm>
        <a:graphic>
          <a:graphicData uri="http://schemas.openxmlformats.org/drawingml/2006/table">
            <a:tbl>
              <a:tblPr/>
              <a:tblGrid>
                <a:gridCol w="3657600"/>
                <a:gridCol w="2286000"/>
                <a:gridCol w="23623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Excess of P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TPChart"/>
          <p:cNvGraphicFramePr/>
          <p:nvPr/>
        </p:nvGraphicFramePr>
        <p:xfrm>
          <a:off x="4876920" y="1714680"/>
          <a:ext cx="426708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14680"/>
                    <a:ext cx="426708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0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228600" y="2249640"/>
          <a:ext cx="4876920" cy="2746080"/>
        </p:xfrm>
        <a:graphic>
          <a:graphicData uri="http://schemas.openxmlformats.org/drawingml/2006/table">
            <a:tbl>
              <a:tblPr/>
              <a:tblGrid>
                <a:gridCol w="2590920"/>
                <a:gridCol w="1218960"/>
                <a:gridCol w="10670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cess of 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ferred 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609480"/>
            <a:ext cx="8305920" cy="207720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nna Highlights Corporation has 150,000 shares of $100 par common stock outstanding. On June 14, Vienna Highlights declared a 4% stock dividend to be issued August 15 to stockholders of record on July 1. The market price of the stock was $110 a share on June 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urnalize the entry to record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1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7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0" name=""/>
          <p:cNvGraphicFramePr/>
          <p:nvPr/>
        </p:nvGraphicFramePr>
        <p:xfrm>
          <a:off x="304920" y="2917800"/>
          <a:ext cx="8610480" cy="3406680"/>
        </p:xfrm>
        <a:graphic>
          <a:graphicData uri="http://schemas.openxmlformats.org/drawingml/2006/table">
            <a:tbl>
              <a:tblPr/>
              <a:tblGrid>
                <a:gridCol w="5410080"/>
                <a:gridCol w="1600200"/>
                <a:gridCol w="16002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Distribu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Distributable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Distribu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Excess of P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Excess of P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TPChart"/>
          <p:cNvGraphicFramePr/>
          <p:nvPr/>
        </p:nvGraphicFramePr>
        <p:xfrm>
          <a:off x="4978440" y="1752480"/>
          <a:ext cx="41590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8440" y="1752480"/>
                    <a:ext cx="41590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228600" y="2286000"/>
          <a:ext cx="5105520" cy="3768840"/>
        </p:xfrm>
        <a:graphic>
          <a:graphicData uri="http://schemas.openxmlformats.org/drawingml/2006/table">
            <a:tbl>
              <a:tblPr/>
              <a:tblGrid>
                <a:gridCol w="3206880"/>
                <a:gridCol w="949320"/>
                <a:gridCol w="94932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Distribu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butable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bu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Exces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 Divid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id-In Capital in Exces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838080"/>
            <a:ext cx="8305920" cy="49550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following accounts and balances, prepare the Stockholders’ Equity section of the balance sheet. Forty thousand shares of common stock are authorized, and 5,000 shares have been reac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Stock, $50 par                               $1,5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-In Capital in Excess of Par                        16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-In Capital from Sale of Treasury Stock       44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ned Earnings                                          4,39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sury Stock                                                  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ding balance in stockholders’ equity is $5,979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1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3" name="Rectangle 12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4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0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4114800" cy="1523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57200" y="768240"/>
            <a:ext cx="8305920" cy="8204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Creek Camera Inc. reported the following results for the year ending March 31, 201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7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0" name=""/>
          <p:cNvGraphicFramePr/>
          <p:nvPr/>
        </p:nvGraphicFramePr>
        <p:xfrm>
          <a:off x="457200" y="4343400"/>
          <a:ext cx="8229600" cy="213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,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,799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,719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,338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sp>
        <p:nvSpPr>
          <p:cNvPr id="181" name="Text Box 20"/>
          <p:cNvSpPr/>
          <p:nvPr/>
        </p:nvSpPr>
        <p:spPr>
          <a:xfrm>
            <a:off x="457200" y="1832040"/>
            <a:ext cx="8305920" cy="2228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ned earnings, April 1, 20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,338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inc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6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dividends decla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 dividends decla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772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lance 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tained earn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fiscal year ended March 31, 2010,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generally accepted accounting principles be used in corpor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3836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3836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6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1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2514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,6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,799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,719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3,338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 lot of corporations have unique relationships with other companies to produce and sell licensed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difficult to purchase a share of stock in a corporation such as Hasb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large businesses are organized as corpor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s incurred in organizing a corporation are debited to an expense account entitled Organizational Exp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981080"/>
          <a:ext cx="4483080" cy="481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81080"/>
                    <a:ext cx="4483080" cy="48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step in forming a corporation is to sell shares of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ance of the retained earnings account at the end of the fiscal year includes the proceeds from the sale of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2008080"/>
          <a:ext cx="4483080" cy="47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08080"/>
                    <a:ext cx="448308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9:05:13Z</dcterms:created>
  <dc:creator> </dc:creator>
  <dc:description/>
  <dc:language>en-US</dc:language>
  <cp:lastModifiedBy>Leslie</cp:lastModifiedBy>
  <dcterms:modified xsi:type="dcterms:W3CDTF">2008-12-30T03:09:48Z</dcterms:modified>
  <cp:revision>42</cp:revision>
  <dc:subject/>
  <dc:title>Do all corporations such as Yankee Candle Company, Inc. start as sole proprietorships?</dc:title>
</cp:coreProperties>
</file>